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AAE-88AC-45A1-B227-EAB3CB11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8F2-CBEE-43A0-B3A7-732E065E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495-4BB1-47F1-A994-3F55714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BEF-FCDF-4540-9A2B-FE511D16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AD6-15B3-4651-9617-8B537E8C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302-5E9A-44A1-AE5A-AC2B9D9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34C-DBD1-4A82-8E6C-FDD560F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816-2978-4A43-B66A-643B16EA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B20-8325-4D1F-A8EB-ED4A19C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364-2D90-454E-A7E3-1180F61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778-6CFA-4119-B817-679C2A7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D06-4598-4840-B1EC-B0FB393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0CD-2800-4825-BDF9-5EFCCE8E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o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o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o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o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59:05Z</dcterms:created>
  <dc:creator>fabio.medessi</dc:creator>
  <dc:description/>
  <dc:language>en-US</dc:language>
  <cp:lastModifiedBy>fabio.medessi</cp:lastModifiedBy>
  <dcterms:modified xsi:type="dcterms:W3CDTF">2010-07-19T15:04:39Z</dcterms:modified>
  <cp:revision>2</cp:revision>
  <dc:subject/>
  <dc:title>Presentazione di PowerPoint</dc:title>
</cp:coreProperties>
</file>